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0A0BB-37B3-451A-8E70-3F861F3719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20F4E-1572-4864-B3E8-93039A3BCB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130DE-851C-45B4-BD6B-398F347E7A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945B9-A92F-4DBC-AC1C-EA5AC22880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3E1EE-0437-4B98-84A5-766C99C8E8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4F8FD-13B7-44C1-A3DE-4169BEC393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F0262-DAAC-4A9F-8C9A-723719B197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9A9A1-20B3-49CA-8352-85AF845819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784C3-CFAB-4496-B374-EC32B2041E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5F4D3-0FB9-423E-AABD-11F439D05B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53593-F642-4A3C-B055-F6B00723A4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0F6C4-BF82-4EFC-9734-6E085184F7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830B-1D7C-49AD-9A58-72522AB4D5ED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084400"/>
            <a:ext cx="52956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verview/Reasons to move to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run translation on your own PC - makes testing SO much easier!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place W2K server on laptop or deskt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 a breez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oving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DT mapping offers more functions than traditional send/receive mapping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185256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C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De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65560" y="1770120"/>
            <a:ext cx="2514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Emp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Form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r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l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14840" y="1668600"/>
            <a:ext cx="24386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N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mLe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mR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nc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hoice of target or source based mapping 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or Target based mapping allows you to achieve the desired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hard to determine at 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concert maps from Target to Source or Source to Targ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Support ends for v3.1 Dec, 2004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DI 3.1 was announced to complete on Dec.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True Data Format to Data Format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DF to DF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a DF to be converted to a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irect EDI Standard to EDI Standard Transform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for EDI to EDI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double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XML DTD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XML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DTD definition of the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double transa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Insert Commands Between Segments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ng commands between segments or elements to get force an operation or assignment based on a specific location of processing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will be executed if the segment is there or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level Segments or Loops must be available to process the comm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Comment Maps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s to mapping comm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 groups to ma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s to the map over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Expanded Conditional process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functions available for conditio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Comp, StrCompI, StrCompN, StrCompNI, Find, F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uble Qoutes used to compare character strigs – “string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Qoutes used to compare numeric fields – ‘123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mand Chaining using MQSeries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273320"/>
            <a:ext cx="734868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Chaining using MQSeries allows processing to continue after each step if des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d by any file being written to, if there is a Service Profile with that same name, it will be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have to use the file that triggers it as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tart a totally  different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Simplified HL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ed HL mapping sup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hi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ally the remaining fields based on how you identified the parent/child relationshi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plex Qualification Mapping Support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fied mapping can be done by Occurrence, Value, or 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s of these can also be used to achieve the desired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asy to Use Mapping Command Editor 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 in creating mapping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– click menus allow all mapping commands and functions to be se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commands and function formats are giv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s can be double clicked so that dragging and dropping of commands can be completed easily and acura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n be easily combined to get the desired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edictable mapping command exec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63160" y="182700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commands are executed in the order that they are listed in the mapping commands wind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selecting Source or Target based mapping, you control the output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using the Insert Within, Insert After, Insert Before and dragging and droping your commands in different order, you can achieve desired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RFH2 Header Access from the Mapper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Property  to retreive the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Property to se the Target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Integration capability with WMQI using the MCD profile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D profiles available to load MQ hea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profiles and processing handled from the cl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Integration with TPI / Cyclone using EDICYCL Network program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integration to Cyclone Interchange to drop data on a queue and pass it in to 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mon database for server and client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Database for Server and Client allows ease of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systems areas involved in the installation and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Any to Any mapping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formation M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nd improved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us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ommands and functions available at a cl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Validation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the customer to create validation maps to confirm a set of business logic in a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reate 997’s as appropriate if des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et validation level errors a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Better Traces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2400" y="941040"/>
            <a:ext cx="734868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ifies mapping problem defini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l = the tracing lev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trace messages are ign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c = component to be trac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enveloper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eloper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sage bro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les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ati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i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mal tracing. Only the first 256 byes of data in the buffer are written to the trac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ed tracing. The entire contents of the buffer is written to the trac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6T15:44:35Z</dcterms:modified>
  <cp:revision>860</cp:revision>
  <dc:subject/>
  <dc:title>IBM Software Group</dc:title>
</cp:coreProperties>
</file>